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794-092A-442C-9423-ECAE538E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C60-23A3-4A03-9403-5F723C6C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E12-D430-44FF-B893-BC1C3E11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5E6-8EAC-4C04-AD93-15B545EF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FB2D-FC4B-4E84-89B2-D0D43D21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B84D-5CFD-4F8A-B11B-42D27401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C9D9-7954-4B2A-9264-F20ADD6C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CC05-350B-4049-803E-3167049C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AE4A-395C-4513-84DD-C06CAFA2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3AB1-72D4-40AC-ACDC-430305BC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DA64-596B-4F58-862E-FAB2C04A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F63-CB7E-4C2E-9CF8-20A08903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1DFA-3B13-4C64-94B8-88FFDD4F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3763-7061-4943-91E3-9E9144C7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1047-9DE6-4058-BF3F-EBBE97F0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3F99-8884-45FB-9035-4E767640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D481-EDED-46DE-A258-70C6B50E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BE7-261D-4F44-89A0-6B30B0F4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01D-754D-4B7F-A58D-F2B64EF3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0B4-54C5-4625-8C64-50DEC9BA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2E3-788C-4BAA-8929-69BC76A5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47A-D685-41D9-BE45-B6E834B0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B91-5EEE-4490-BD6B-25475D5B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83E-BA97-4B4E-823C-BDE7C99A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3817-F73B-493E-B8D4-2405F920B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52CC-A8E6-45B6-A8AB-A0F56DCB7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ications with Aca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-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Stimulatory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e Mem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remember things without necessarily knowing what they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well developed in autistic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use memory to mimic higher-level 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ly, the material may be difficult to retr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ly use only one problem solving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use this strategy in every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regardless  of whether or not it is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Diso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problems with communication m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be able to communicate due to delays in develop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the desire to commun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eye contact while communic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 to respond to others’ gestures and facial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words uttered by someone else with no understanding of th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e pronouns (use You instead of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monotone voice regardless of the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members and professionals may not be able to judge whether or not the student is eng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Stimulatory Behav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clapping or r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s with social accep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a disruption for other students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have heightened sensory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able to hear sounds that cannot be heard to a person without au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find the tag on a shirt irrit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sensory inputs may be distracting to the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20:34:35Z</dcterms:created>
  <dc:creator>Amanda Quail</dc:creator>
  <dc:description/>
  <dc:language>en-US</dc:language>
  <cp:lastModifiedBy>Amanda Quail</cp:lastModifiedBy>
  <dcterms:modified xsi:type="dcterms:W3CDTF">2010-06-13T20:35:25Z</dcterms:modified>
  <cp:revision>1</cp:revision>
  <dc:subject/>
  <dc:title>Complications with Academics</dc:title>
</cp:coreProperties>
</file>